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B875-2DFC-4E9E-A272-1CBB9064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4CD8-A54B-4AAF-A268-4ED6D6F8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63A6-3848-4E8A-92D5-5A3C6D75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08A7-0AE9-4683-BFAE-BAB59FDC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A30F-32D3-4E57-A852-6C952E43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1AE4-F6F7-4604-B993-A0728D7A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4CF6-C734-4C75-A4BC-0501D1EE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E959-8B5A-4428-9B23-C935A415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D9AC-1A3D-4F99-BADA-B05C9D9B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92D8-6AB2-495B-9D5C-25B0536B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6027-03AC-4AFE-883D-9B340C96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A5C8-5EEC-44FA-A7B2-7294E428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9953-0FC4-4BBB-89DF-6E0FDF25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259F-FFFC-43EB-B6C9-597664C5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1DC0-F15C-4710-9A57-B4304D80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8865-78C4-4F99-B33C-1E1E84BC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E562-2A54-4B8D-9824-E00C542A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F48A-0F5E-4DE4-BCB5-1C1A0552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C88E-7744-47D7-A312-192FB68F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3F86-3EFE-433F-90DF-848D126F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3DE4-81CA-4666-A51C-C942CA67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3238-FEE5-47FC-9F94-0528FACD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97CB-711E-4B3A-B0E2-01779BC7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FE43-F5C7-4736-A11C-9CFFF1E8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C8F5-97E1-4F18-92BC-1836F2C85528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93FE-0CA9-4358-96F8-4590B52360E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63640" y="330120"/>
            <a:ext cx="5907240" cy="67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Romance de Fajardo (fronterizo a. 1466 ó 1477</a:t>
            </a:r>
            <a:r>
              <a:rPr b="0" lang="es-MX" sz="1800" spc="-1" strike="noStrike">
                <a:solidFill>
                  <a:srgbClr val="2f1311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Jugando estaba el rey mor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y aun al ajedrez un día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con aqueste buen fajard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con amor que le tení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Fajardo jugaba Lorca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y el rey moro, Almería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jaque le dio con el roque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el alférez le prendí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A grandes voces dice el moro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-“La villa de Lorca es mía”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Allí  hablara Fajardo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bien oiréis lo que decía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-“Calles, calles, señor rey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no toméis la tal porfía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que aunque me la ganases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ella no se te daría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caballeros tengo dentro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47840" y="6174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77360" y="690480"/>
            <a:ext cx="3419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que te la defenderían”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Allí hablara rey moro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bien oiréis lo que decía 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-“No juguemos más, Fajardo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ni tengamos más porfía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que sois tan buen caballero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Times New Roman"/>
              </a:rPr>
              <a:t>que todo el mundo os temía”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22:25:03Z</dcterms:created>
  <dc:creator> </dc:creator>
  <dc:description/>
  <dc:language>en-US</dc:language>
  <cp:lastModifiedBy> </cp:lastModifiedBy>
  <dcterms:modified xsi:type="dcterms:W3CDTF">2007-09-28T22:44:30Z</dcterms:modified>
  <cp:revision>2</cp:revision>
  <dc:subject/>
  <dc:title>Diapositiva 1</dc:title>
</cp:coreProperties>
</file>